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D20-BC5D-4753-8FFE-30FD2AA6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858-5987-4A5E-B715-50467D13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D2E-1E48-457C-B8F7-3D1BF8BB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438-9019-48F2-A16E-D35ECEB2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5A4D-7936-440D-987B-9D7E5550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6185-FB50-4EE4-8195-39AB20C6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504C-5058-4B1D-B26D-E89BE115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D599-B2E4-4E76-B8F4-B3BAC9FA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D081-6624-465A-AA98-BA8CDD2A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E175-989A-43EA-A191-1F38107F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9461-7D43-4642-964D-6ED52E14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E67-9314-478B-B9D9-C9D659E5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24F7-4691-469F-982C-420DD09B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F7C6-5F27-4D18-BF06-EB4BF000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7983-3C95-49F0-968A-9D8E4963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8810-A297-48C8-9542-361E7C32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B49C-48B0-4951-BFF2-35D9DC9F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BF4C-0F81-48A7-8B6B-FF4D7958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858-6B17-4BAB-BA23-759A8F06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B06-0061-4D86-ABF1-408C7242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5BC-EC27-438B-8A11-266069EA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622-EAA3-420F-AF19-F73A3980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C07-F349-4EF4-B60D-EB0891BE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763-AAD6-4A5F-A619-2C752C14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EAA5-D677-4BA6-AC4D-AE24219B5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5B51-F348-4107-B3A8-5B47B7C81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: Nonlinear functions and their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1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symmetry in the graph of a fun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 with respect to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525780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e if a function is odd, even, or nei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is even if f(x)=f(-x) for every x in its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4038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ev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e if a function is odd, even, or nei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is odd if f(-x)= -f(x) for every x in its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62520" y="3124080"/>
            <a:ext cx="365760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od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+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51-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-16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-48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-90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terminology about polynomial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ntervals when a function is increasing or decre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extrema of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symmetry in the graph of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a function is odd, even, or nei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 terminology about polynomial fun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function: function with a variable raised to a power higher tha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ing coefficient: numerical value of the term that has the highest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: the highest power in a given polynomial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form of a polynomial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egree and the leading coeffic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-1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intervals when a function is increasing or decreasing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ncrease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&lt;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decreases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&gt;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1687" t="10773" r="0" b="0"/>
          <a:stretch/>
        </p:blipFill>
        <p:spPr>
          <a:xfrm>
            <a:off x="3657600" y="1371600"/>
            <a:ext cx="505764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intervals when a function is increasing or decreasing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f increa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f decrea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687" t="10773" r="0" b="0"/>
          <a:stretch/>
        </p:blipFill>
        <p:spPr>
          <a:xfrm>
            <a:off x="3657600" y="1371600"/>
            <a:ext cx="505764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extrema of a functio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extr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 f(x) for all values of x (global/absolute maxim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f(x) for all values of x (global/absolute minim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62720" y="3962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extrema of a functio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extr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 f(x) for all values of x close to c (local/relative maxim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f(x) for all values of x close to c (local/relative minim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9528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symmetry in the graph of a fun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 with respect to the y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4038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6:16:05Z</dcterms:created>
  <dc:creator>nuhs</dc:creator>
  <dc:description/>
  <dc:language>en-US</dc:language>
  <cp:lastModifiedBy>nuhs</cp:lastModifiedBy>
  <dcterms:modified xsi:type="dcterms:W3CDTF">2008-02-11T21:21:37Z</dcterms:modified>
  <cp:revision>6</cp:revision>
  <dc:subject/>
  <dc:title>4.1: Nonlinear functions and their graphs</dc:title>
</cp:coreProperties>
</file>